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ftr" idx="7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41120" y="767880"/>
            <a:ext cx="681840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8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93097E-7DB5-4E7D-9C9D-A57E119223D3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E6D8E1-4116-4C38-9EC4-4B1235BD49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41120" y="768240"/>
            <a:ext cx="681840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ccessful strategies for winning, keeping custom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E8E-2DF0-4290-88FF-1496650E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843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828800" y="3912120"/>
            <a:ext cx="843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ACF-A724-4F50-A5FB-581D3FDD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828800" y="391212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149880" y="391212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292-6823-4EA8-B037-6A1F27B3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31200" y="152388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828800" y="391212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680000" y="391212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531200" y="391212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155-D848-4938-8750-D071C24C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C187-2A2E-4B70-835D-7CE68699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523880"/>
            <a:ext cx="8432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C3B4-AE09-4B63-8814-0A333BEA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8432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6DA0-02AB-41FB-B5C4-8C158E69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DAC3-6468-4C40-BB42-6AEC9DD0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F467-1FCF-409C-A67A-A70A2470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566360" y="7828560"/>
            <a:ext cx="1625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A334-03E4-4516-AADF-C0424434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91212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DAB8-6BB2-46D6-98A7-36D9B768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828800" y="1523880"/>
            <a:ext cx="8432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BE1-4539-443C-A5CD-37F3C7C9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49880" y="391212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933A-5BFC-451B-BF05-EDC9A214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912120"/>
            <a:ext cx="843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FF5C-A053-40D8-903F-E6333CB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843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912120"/>
            <a:ext cx="843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9A39-1E89-4359-A8F2-94D6F1C5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91212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49880" y="391212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F92-1F2D-4D4F-BB95-3449BC79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531200" y="152388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91212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680000" y="391212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531200" y="3912120"/>
            <a:ext cx="271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D1F3-3C8F-42D7-B5A8-8AD1CD16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8432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F91-0E55-4264-BA6D-1783FF18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8F0-073B-410D-A8AD-577E9ABD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8FC-BAED-49B4-854C-E6ED4E04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566360" y="7828560"/>
            <a:ext cx="16257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1ED0-2872-4587-B0A2-2B04DC45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828800" y="391212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038-C2A4-4BB9-B61C-3812F6BD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49880" y="391212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E6D-01D3-4F6A-817E-D10BB1C6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49880" y="1523880"/>
            <a:ext cx="4114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28800" y="3912120"/>
            <a:ext cx="8432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AD2-1C5A-4C03-9392-E8D5EEAB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828440" y="6248520"/>
            <a:ext cx="22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5720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6519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E739-3480-4523-8150-6CBF45D48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828800" y="1523880"/>
            <a:ext cx="8432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e9e2b6"/>
              </a:buClr>
              <a:buSzPct val="95000"/>
              <a:buFont typeface="Segoe U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e9e2b6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e9e2b6"/>
              </a:buClr>
              <a:buFont typeface="Segoe U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e9e2b6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graphicFrame>
        <p:nvGraphicFramePr>
          <p:cNvPr id="5" name="Object 8"/>
          <p:cNvGraphicFramePr/>
          <p:nvPr/>
        </p:nvGraphicFramePr>
        <p:xfrm>
          <a:off x="0" y="-76320"/>
          <a:ext cx="172728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6320"/>
                    <a:ext cx="17272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Object 10"/>
          <p:cNvGraphicFramePr/>
          <p:nvPr/>
        </p:nvGraphicFramePr>
        <p:xfrm>
          <a:off x="0" y="1523880"/>
          <a:ext cx="1727280" cy="190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523880"/>
                    <a:ext cx="17272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Object 12"/>
          <p:cNvGraphicFramePr/>
          <p:nvPr/>
        </p:nvGraphicFramePr>
        <p:xfrm>
          <a:off x="0" y="3048120"/>
          <a:ext cx="1727280" cy="167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8120"/>
                    <a:ext cx="1727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" name="Object 13"/>
          <p:cNvGraphicFramePr/>
          <p:nvPr/>
        </p:nvGraphicFramePr>
        <p:xfrm>
          <a:off x="0" y="4724280"/>
          <a:ext cx="172728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" name="Object 1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724280"/>
                    <a:ext cx="172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" name="Object 14"/>
          <p:cNvGraphicFramePr/>
          <p:nvPr/>
        </p:nvGraphicFramePr>
        <p:xfrm>
          <a:off x="0" y="5840280"/>
          <a:ext cx="1727280" cy="101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" name="Object 1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5840280"/>
                    <a:ext cx="172728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523880"/>
            <a:ext cx="8432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Clr>
                <a:srgbClr val="e9e2b6"/>
              </a:buClr>
              <a:buSzPct val="95000"/>
              <a:buFont typeface="Segoe U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Clr>
                <a:srgbClr val="e9e2b6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Clr>
                <a:srgbClr val="e9e2b6"/>
              </a:buClr>
              <a:buFont typeface="Segoe U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Clr>
                <a:srgbClr val="e9e2b6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E09F-69B2-4EF9-94C0-ADE0142AAC9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75040" y="685440"/>
            <a:ext cx="7415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2b6"/>
                </a:solidFill>
                <a:latin typeface="Arial"/>
              </a:rPr>
              <a:t>Making a Business of</a:t>
            </a:r>
            <a:br>
              <a:rPr sz="2400"/>
            </a:br>
            <a:r>
              <a:rPr b="1" lang="en-US" sz="2400" spc="-1" strike="noStrike">
                <a:solidFill>
                  <a:srgbClr val="e9e2b6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e9e2b6"/>
                </a:solidFill>
                <a:latin typeface="Arial"/>
              </a:rPr>
              <a:t>Recreation</a:t>
            </a:r>
            <a:endParaRPr b="1" lang="en-US" sz="60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16240" y="4413240"/>
            <a:ext cx="5103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d54f41"/>
                </a:solidFill>
                <a:latin typeface="Segoe UI"/>
              </a:rPr>
              <a:t>DownUnder</a:t>
            </a:r>
            <a:br>
              <a:rPr sz="6600"/>
            </a:br>
            <a:endParaRPr b="0" lang="en-US" sz="6600" spc="-1" strike="noStrike">
              <a:solidFill>
                <a:srgbClr val="e9e2b6"/>
              </a:solidFill>
              <a:latin typeface="Segoe UI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7945200" y="3951360"/>
            <a:ext cx="188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9e2b6"/>
                </a:solidFill>
                <a:latin typeface="Comic Sans MS"/>
              </a:rPr>
              <a:t>Sportswear</a:t>
            </a:r>
            <a:r>
              <a:rPr b="1" i="1" lang="en-US" sz="5400" spc="-1" strike="noStrike">
                <a:solidFill>
                  <a:srgbClr val="e9e2b6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Partnerships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8800" y="2205000"/>
            <a:ext cx="84326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Products, value,  quality, and service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Success is our objective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Satisfaction is our mission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Partnership is the key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Meeting the Needs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2205000"/>
            <a:ext cx="84326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Retail partners program </a:t>
            </a:r>
            <a:br>
              <a:rPr sz="3200"/>
            </a:b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targets our large customer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They become part of the DownUnder Sportswear network, which creates a link between DownUnder and the local market.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Growing Sales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2895480" y="1523880"/>
          <a:ext cx="63248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523880"/>
                    <a:ext cx="63248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6172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Customer Requirements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2205000"/>
            <a:ext cx="84326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Fast delivery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Top manufacturers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Competitive prices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After sales support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Our Strengths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2205000"/>
            <a:ext cx="84326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Fast delivery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Top manufacturers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Competitive prices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After sales support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Key Benefits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28800" y="2205000"/>
            <a:ext cx="84326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Prompt service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Wide selection of products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Support after sale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marL="536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566360" y="380520"/>
            <a:ext cx="16257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3a2b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c53a2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8800" y="2205000"/>
            <a:ext cx="84326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Advertising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1" marL="1074600" indent="-617400">
              <a:spcBef>
                <a:spcPts val="700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2b6"/>
                </a:solidFill>
                <a:latin typeface="Segoe UI"/>
              </a:rPr>
              <a:t>Circulars, newspapers, television, and radio</a:t>
            </a:r>
            <a:endParaRPr b="0" lang="en-US" sz="28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Promotions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1" marL="1074600" indent="-617400">
              <a:spcBef>
                <a:spcPts val="700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2b6"/>
                </a:solidFill>
                <a:latin typeface="Segoe UI"/>
              </a:rPr>
              <a:t>Special offers and discounts</a:t>
            </a:r>
            <a:endParaRPr b="0" lang="en-US" sz="2800" spc="-1" strike="noStrike">
              <a:solidFill>
                <a:srgbClr val="e9e2b6"/>
              </a:solidFill>
              <a:latin typeface="Segoe UI"/>
            </a:endParaRPr>
          </a:p>
          <a:p>
            <a:pPr marL="536400" indent="-536400">
              <a:spcBef>
                <a:spcPts val="799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2b6"/>
                </a:solidFill>
                <a:latin typeface="Segoe UI"/>
              </a:rPr>
              <a:t>After sales</a:t>
            </a:r>
            <a:endParaRPr b="0" lang="en-US" sz="3200" spc="-1" strike="noStrike">
              <a:solidFill>
                <a:srgbClr val="e9e2b6"/>
              </a:solidFill>
              <a:latin typeface="Segoe UI"/>
            </a:endParaRPr>
          </a:p>
          <a:p>
            <a:pPr lvl="1" marL="1074600" indent="-617400">
              <a:spcBef>
                <a:spcPts val="700"/>
              </a:spcBef>
              <a:buClr>
                <a:srgbClr val="ffffff"/>
              </a:buClr>
              <a:buSzPct val="107000"/>
              <a:buFont typeface="Segoe UI"/>
              <a:buChar char="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2b6"/>
                </a:solidFill>
                <a:latin typeface="Segoe UI"/>
              </a:rPr>
              <a:t>Mailings and telemarketing </a:t>
            </a:r>
            <a:endParaRPr b="0" lang="en-US" sz="2800" spc="-1" strike="noStrike">
              <a:solidFill>
                <a:srgbClr val="e9e2b6"/>
              </a:solidFill>
              <a:latin typeface="Segoe U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/>
  <dc:description/>
  <dc:language>en-US</dc:language>
  <cp:lastModifiedBy>Yolande Eriksen</cp:lastModifiedBy>
  <cp:lastPrinted>2000-10-30T09:21:38Z</cp:lastPrinted>
  <dcterms:modified xsi:type="dcterms:W3CDTF">2019-08-11T04:42:41Z</dcterms:modified>
  <cp:revision>94</cp:revision>
  <dc:subject/>
  <dc:title>Selling an Idea or a Product</dc:title>
</cp:coreProperties>
</file>