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F28-FAFB-43A1-A823-9893E902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1D0E-B6C7-4FA9-BD65-0E19E2DD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084-3F29-4585-8441-A5251FBC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D99-A32E-466E-BE05-0773D883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16FD-2168-46AE-A9CE-61AB7DB0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A5A5-2736-4457-86E0-529A32D3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C3B6-4970-4364-91E8-B9163ACC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E651-C0F4-445F-BAE6-EDC73229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7B90-7470-4A53-B7F9-1F0AF58B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58DF-5D37-4619-8B20-700C927A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4EDB-1BE7-4344-9A37-86AA8465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DC03-ED22-4EA7-8CD8-A945D7CA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49E7-B128-42C1-80FB-1E1930E8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AB24-67D7-4905-AAB6-721FBA0E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2ACE-2DBC-4B7D-B71B-9A0BD660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F11A-0ABC-4C46-B323-48DAE95D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69EA-8652-453A-8CC9-D3969EA6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A702-13AB-44E8-A8EC-370DF97D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BE45-2F5E-423B-A08F-EDBC8AAB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0B62-16D0-48E7-B8D9-53D97E92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A790-9137-4CEF-B96E-2B076A6B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808-534A-4B52-8DEC-29C56097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4C04-E55A-4969-B587-0AE632BA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F7C-E030-4B5B-BBFA-C0416063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F7EE-4438-4AD6-A1EA-B8D7BB6ED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4189-44D1-4071-9253-CA7BA54AD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Adventure Holidays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Win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Whirl Wind Tra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White Water Rafting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f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gear &amp; tour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White Water Rafting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grea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Raf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Raf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he Ultimate Thrill Holiday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f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gear &amp; tour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The Ultimate Thrill Holiday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ck 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y d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Water Raf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Rock Climbing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gear &amp; tour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venir T-Shi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Rock Climbing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ting Sta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clim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illing Cliff 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Sunning and Diving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f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gear &amp; tour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Sunning and Diving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soaked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ght diving in exotic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sa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3T03:53:08Z</dcterms:created>
  <dc:creator/>
  <dc:description/>
  <dc:language>en-US</dc:language>
  <cp:lastModifiedBy>CTS TRAINING PTY LTD</cp:lastModifiedBy>
  <dcterms:modified xsi:type="dcterms:W3CDTF">2002-04-21T04:30:39Z</dcterms:modified>
  <cp:revision>4</cp:revision>
  <dc:subject/>
  <dc:title>Adventure Holidays</dc:title>
</cp:coreProperties>
</file>