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213A-FE72-4A32-86EF-677B0443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A9B-BD28-48A0-808D-91391FE0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EE0-8FD2-4BDD-B9C3-4B6C2C89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741-71E6-4DEF-B58B-6E091BD8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7D2-7CF4-4F54-9F42-BFB3BB5C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438-3727-4CA4-8CA6-52E687F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AE0-5630-4DA4-97CB-317683F9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7BB-621B-4BE3-B45B-F15F92F2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F99-901B-46FE-8145-E0D5137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ADE-1C56-41B0-AD34-CC3E9EF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24C-51C7-4457-AC44-FAE1641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4A6-9F82-43CF-998D-618C8E38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525-3CFE-42E1-8D9D-301CF63E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88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01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Market Sh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41148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id we get 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ssiv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752480" y="1143000"/>
          <a:ext cx="6097680" cy="40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1430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ding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26668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ero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0"/>
            <a:ext cx="914400" cy="68580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02:02:11Z</dcterms:created>
  <dc:creator>Training File</dc:creator>
  <dc:description/>
  <dc:language>en-US</dc:language>
  <cp:lastModifiedBy>Training File</cp:lastModifiedBy>
  <dcterms:modified xsi:type="dcterms:W3CDTF">2000-02-01T01:34:03Z</dcterms:modified>
  <cp:revision>2</cp:revision>
  <dc:subject/>
  <dc:title>No Slide Title</dc:title>
</cp:coreProperties>
</file>